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CA2-9567-46C4-A41C-1004A310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DD2-F5C8-4EF5-9AB4-B37C2B1A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F86-0962-48C7-ADA5-E661974C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088-E133-4FF8-8397-C482BF64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C94A-8E05-463C-B27A-3618886E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3E45-8A2C-42D5-ADED-6A784FDA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C2A1-D938-427F-81BF-5E0CBD28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8D9D-0DAC-44AF-A803-B99D6888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06F8-A249-41FF-A487-9EE617D8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9338-AE11-4A55-ABD0-AE338644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E6D5-97CB-41B1-94EE-4C41358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766-A728-4029-A2E7-A34E0C90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0B6D-7D84-4E90-AF7A-E8DCBB58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05D4-69CC-45A1-B47C-0C7E0B50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BD9D-C2C0-46E0-9DEB-48822286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7D56-AC9B-45F6-B4E5-4BCA67F5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28E2-7F43-4A22-B405-D1E360EB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323-7F63-4FDE-ABB4-F149533E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28F-9ADE-40D8-AE36-20F07553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440-C064-4431-8CEB-36D4B0C3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10BF-478A-453A-83F9-8F541E5D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299-C30E-4039-AA3A-5B44A886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ED9-5C21-4429-A6AE-B0121659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2A5-7DB1-453C-B14A-A5994C14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C206-EA4B-49DA-B027-AAFAA9840DC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E424-B46C-4A04-B8B7-422ECE1E333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вязи с общественностью в кризисных ситуациях. 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Управление проблемами и конфликтам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2. Селективная идентификац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я в состоянии заниматься разрешением лишь нескольких проблем. Поэтому в центре внимания все время нужно держать от 5 до 10 конкретных проблем, которые являются жизненно важными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3. Внимание к сильным и слабым местам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ьшинство предполагаемых заранее проблем, с одной стороны, предоставляют организации шансы для своего укрепления, использования резервов, с другой - содержат угроз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4.  Планирование в направлении «Извне внутрь»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нешняя среда, а не внутренняя стратегия обуславливает селекцию приоритетных проблем. То есть управление проблемами обусловлено внешними фактора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5. Ориентация на получение пользы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ель управления проблемами - защита организации от воздействия внешних факторов и усиление ее деловой активности за счет нейтрализации факторов, составляющих угрозу тем преимуществам, которыми она располагае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6. Составление графика действий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дентификация и упорядочение возникающих проблем, общая политика, программа и график разрешения пробле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7. Поддержка со стороны руководств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Без санкций основного руководителя одобрение и осуществление управления проблемами в пределах организации невозмож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изис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Выпуск заявления, представляющего факты так, как они известны, и представление его в медиа и внутри организ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Предоставление свежей информации по мере развития ситуации и появления новых свед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изис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Использование самых быстрых средств коммуникации из доступных — социальные сети, мессенджеры и т.п. для распространения информации как во внешнюю среду, так и внутри организации. Распространяя информацию в СМИ, в серьезных ситуациях приоритет следует отдать крупнейшим, которые сделают большую часть работы службы ПР бесплатно, если ситуация достаточно серьез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Предоставление достаточного числа каналов для запросов информации извне; с использованием дополнительных линий связ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Антикризисный P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лекс мероприятий по прогнозированию, недопущению или преодолению кризиса репутац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изис репутации (reputation crisis, credibility crisis, confidence crisis)– ситуация, угрожающая падением репутации или кредитоспособности организации в результате огласки или иного распространения негативной информации среди заинтересованных лиц (stakeholder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интересованные лица – любая группа людей, которая может повлиять на благополучие организации (наемный персонал, управляющие, акционеры, потребители, поставщики, кредиторы, СМИ, местные жители, местные власти, надзорные органы и др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цесс кризисного управления можно разделить на три этап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к кризис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ции на кризи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вление его последствия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Выявление проблем, которые могут стать кризисом. Затем идентификация источника кризиса, возможно, не связанного с проблем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Определение реакции, на основе создания кризисного плана и команды управления кризи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Идентификация ключевых аудиторий и подготовка коммуникаций, нацеленных на эти аудитории во время критических первых дней кризиса. Реакция в первые часы кризиса особенно важ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Определение точки управления кризисом. Это может быть центральный или региональный офис, что обусловлено концентрацией основных ресурсов ПР на том или другом уровне. В одних компаниях — это головной офис, в других, наоборот, — службы отдел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Определение дублеров для ключевого штата. В конкретный момент нужный человек может оказаться болен или длительно отсутствовать. Поэтому система замен должна быть надежной для любых потряс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Подготовка процедур на случай чрезвычайных ситуаций методом моделиро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Подготовка всех лиц, потенциально интересных прессе, к работе с н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Создание системы легкой достижимости высших менеджеров для головного офи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едоставление инструкций по управлению кризисом для всех, потенциально вовлеченных в него. Эти люди должны располагать точкой зрения компании по важнейшим проблемам, а также списком домашних телефонов потенциальных менеджеров кризи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одготовка поддержки пресс-офиса, служб отношений с потребителями, управления человеческими ресурсами, а также консультант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9900"/>
                </a:solidFill>
                <a:latin typeface="Garamond"/>
              </a:rPr>
              <a:t>Программа управления проблемами включает восемь шагов: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Идентификация: какие проблемы могут возникнуть, исходя из специфики отрасли или масштаба компан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Расстановка приоритетов/классификация: какие из данных рисков могут причинить значительный ущерб репутации или деятельности компании, если ими не управлять эффективн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Мониторинг: как данная проблема развивается ежемесячно или даже ежедневн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Подготовка: как мы можем предсказать направление развития ситуации и разработать план действи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9900"/>
                </a:solidFill>
                <a:latin typeface="Garamond"/>
              </a:rPr>
              <a:t>Программа управления проблемами включает восемь шагов: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Действие: какие шаги мы можем предпринять для того, чтобы изменить направление развития проблем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Реакция на проблему/кризис: как реагировать, если проблема перейдет в кризис, угрожающий бизнесу компан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ценка: эффективно ли мы реагировали на проблему, предотвращая ее эволюцию в кризис? Какие уроки мы вынес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Реклассификация: уменьшилась ли острота проблемы с течением времени? Является ли она все еще прогрессирующей угрозо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редвидение проблем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оцесс управления проблемами требует предвидения за 1,5-3 года до возможного перерастания в кризис. То есть это еще не планирование мер по преодолению кризиса и не планирование выхода их кризиса, а предкризисное планирова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3:07:15Z</dcterms:created>
  <dc:creator>XTreme</dc:creator>
  <dc:description/>
  <dc:language>en-US</dc:language>
  <cp:lastModifiedBy>Дружба Ольга Владимировна</cp:lastModifiedBy>
  <dcterms:modified xsi:type="dcterms:W3CDTF">2022-11-17T12:07:50Z</dcterms:modified>
  <cp:revision>16</cp:revision>
  <dc:subject/>
  <dc:title>PR управление кризисом и</dc:title>
</cp:coreProperties>
</file>