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B5C-3D09-4EE5-B9B0-6684ABCF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63D-FC89-491C-A3A5-33D93E9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614-2759-4485-876E-5C6E11D3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7B9-518E-4EC8-9F8D-6175B844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74C8-9B6C-4BB0-9397-32B0B051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7872-2DE8-40AA-88AA-FAED08CC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29F-AC16-42AF-9E4E-D4F28428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B442-3C18-449A-94D5-BA47BCE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CF9-6E06-448B-9D81-2D9D252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8ADA-05EE-40A9-9847-061DE09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2C36-737C-490E-BE8F-59A454B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409-455B-44DD-AC83-0676742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8750-E508-4610-B6BA-A66E96E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4372-6157-43C8-A360-A2211EE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8AB-B2DE-43DB-801B-CB05883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8901-5E2A-414B-A2C8-F1C864E7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0C93-CC63-4D2D-870B-76541C4A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32D-16EA-4D69-AC7E-7847789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91D-DA82-4139-8CD3-502ED88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D02-95D7-4EDE-9595-E91ADA22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5E7-E1A5-4053-91BD-9998931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7CF-E74F-49D4-BF6E-590187D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10B-95BE-4970-BAD8-DEFA890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A4B-9F9A-4C13-B25A-2AE08BA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523-21AF-4BCE-AE57-D8D62927A2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85C-6114-4735-9C53-265680FA88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«Черный»</a:t>
            </a:r>
            <a:r>
              <a:rPr b="1" lang="en-US" sz="4600" spc="-1" strike="noStrike">
                <a:solidFill>
                  <a:srgbClr val="006633"/>
                </a:solidFill>
                <a:latin typeface="Tahoma"/>
                <a:ea typeface="Tahoma"/>
              </a:rPr>
              <a:t> PR</a:t>
            </a: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: </a:t>
            </a: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понятие, технологии, примеры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е коммун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ный PR - это целенаправленная деятельность, имеющая целью разрушение или ухудшение имиджа конкретного лица или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"черный PR" возник в начале 90-х годов и обозначал распространение информации политического или коммерческого характера, оплата за которое производилась неофициально (в теневой форме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ет заведомо ложную информацию, а если она правдива, то добыта, как правило, нечестным путем (подкуп, шпионаж и проче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ривести к полному уничтожению организации или разрушению репутации человека (проще начать работу над чем-то новым, чем попытаться "отмыться" от черного пиар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mage-6"/>
          <p:cNvPicPr/>
          <p:nvPr/>
        </p:nvPicPr>
        <p:blipFill>
          <a:blip r:embed="rId1"/>
          <a:stretch/>
        </p:blipFill>
        <p:spPr>
          <a:xfrm>
            <a:off x="1143000" y="404640"/>
            <a:ext cx="73897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черного 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я, представляемая на всеобщее обозрение, часто не соответствует морально-этическим нормам, принятым в обществ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ю черн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 является улучшение собственной репутации,  речь идет о "потоплении" конкур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бликация компрометирующей информации в СМИ происходит плат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, как правило, содержит какую-то новую завуалированную идею, которую нужно навязать аудитор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случаях, может быть полезен для объекта, на который он направлен (повышается узнаваемость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 практически всегда распространяется аноним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че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кампании требует значительных материальных вло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age-4"/>
          <p:cNvPicPr/>
          <p:nvPr/>
        </p:nvPicPr>
        <p:blipFill>
          <a:blip r:embed="rId1"/>
          <a:stretch/>
        </p:blipFill>
        <p:spPr>
          <a:xfrm>
            <a:off x="684360" y="549360"/>
            <a:ext cx="73627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PR-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онечных целей и детализация их на конкретные задачи (то, чего вы хотите добиться в итог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целевой аудитории (в каких кругах будет распространяться информац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стонахождение и контакты (где и как вы можете связаться с представителями целевой аудитории, чтобы донести до них нужные свед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схемы работы со СМИ (анализ методов донесения сведений до целевой аудитории, выбор приоритетных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нформационной составляющей (каким должно быть сообщение, чтобы вызвать резонанс в обществ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событий, в ходе которых будет распространена компрометирующая информ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ogo-1"/>
          <p:cNvPicPr/>
          <p:nvPr/>
        </p:nvPicPr>
        <p:blipFill>
          <a:blip r:embed="rId1"/>
          <a:stretch/>
        </p:blipFill>
        <p:spPr>
          <a:xfrm>
            <a:off x="2355840" y="2158920"/>
            <a:ext cx="4432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побочных событий, которые будут спровоцированы для увеличения резонан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средственное создание событий, распространение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корректирующих мероприя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ершение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PR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мпрома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Цель - вызвать сомнения в компетентности конкурента путем запуска какой-то информации и донесения ее до широкой аудитор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обвинения должны быть восприняты публикой, как достоверные. Чаще всего требуется искусственное создание какого-то резонансного события, которое широко тиражируется через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Плохая похвал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ужно публично похвалить противника таким образом, чтобы на аудиторию информация возымела обратный эфф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рирование успехов, чрезмерное употребление хвалебных эпите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информация не подтверждается какими-либо фактами. Таким образом, происходит ухудшение имидж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ейсы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плохая похвал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мероприятие, организованное главой района, конкуренты пригласили бизнесмена, который должен был выступить с хвалебной речью. В конце праздника человек начал рассказывать аудитории об успехах местного руководителя, о том, что ему удалось сделать и построить, что вызвало одобрение аудитории. Позже оратор в таких же позитивных тонах начал рассказывать о капитальном строительстве, которое планируется вести, что вызвало у слушателей негативные эмоции, ведь их уютные дворы превратятся в колодцы. Так в результате использования метода "плохой похвалы" глава района утратил доверие гражд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войная аудитория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ачала нужно оказать влияние на одну группу лиц, которые распространят свою негативную реакцию на другие сегмен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, чтобы добиться реакции властей, разрабатывается PR-кампания, направленная на вызов недовольств среди населения. На это реагируют СМИ. Тогда, у органов власти не остается другого выхода, как отреаг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ойная аудитор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 Public Relations по принципу двойной аудитории: скажем, руководители компании, которую требуется дискредитировать, были замечены в высказывании националистских ид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и убеждения они высказывали только в частных беседах. Но информация была донесена до общественных организаций и национальных общин. Их негодование вызвало интерес СМИ. Как результат, компания разорила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Крючок и наживк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ъекта, который нужно скомпрометировать, искусственно создается ситуация, в которую он должен попасть. Дальше все развивается так, что он сам портит свою репутац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ичный пример использования метода "крючка и наживки"- это уже реальная ситуация с американским президентом Биллом Клинто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го познакомили с Моникой Левински, после чего завязался роман. Позже он был обвинен в сексуальных домогательствах, а внебрачная связь с Левински послужила аргументом против не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щественное возмущ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- это поиск объекта или ситуации, на которую общественность отреагирует возмуще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средств массовой информации состояние недовольства нужно подогревать как можно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Разноцветный 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выстраивание тесных связей межу субъектом и общественностью с целью формирования положительного отношения к его личности или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дминистративный ресурс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неправдивой информации органы местной или государственной власти настраиваются против определенной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ходе проверок, проводимых этими структурами, обнаруживаются многочисленные нарушения, что нередко приводит к уничтожению предприя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834920" y="177336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ей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литный ночной клуб проникают два молодых человека презентабельного внешнего вида. Будучи уже в помещении, они переодеваются в бродяг, начинают дебоширить, донимать гостей и драться с охраной. Результат - репутация клуба разрушена, он теряет кли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ководитель условной сети супермаркетов захотел устранить крупного конкурента. Для этого была нанята большая группа людей для создания искусственных очередей на кассах. При этом у каждого участника данной "акции" достаточно большое количество товаров. У остальных покупателей создается негативный образ магазина. Боясь больших очередей, они начинают обходить его сторо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пособы противодействия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черному P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езорганизация атак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Если у вас есть информация о том, что на вас готовится компромат, вы должны сами себя очернить, используя СМИ и прочие средства распространения информации. Обвинения должны быть весомыми и грубыми. Но через короткое время выходит опровержение с железобетонными доказательствами. Таким образом, к любым новым обвинениям у публики выработается иммунит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 вспыш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а фоне информационной атаки со стороны конкурентов должно быть искусственно создано событие, которое по своей значимости перекроет компрометирующий материал. Важно, чтобы этот процесс протекал в другой информационной плоскости и имел позитивный оттен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нтрата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В ответ на информационную атаку, вы организуете свою войну с источником негативных и неправдивых сведений о в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силение белого пиа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е обращая внимания на компромат, нужно как можно теснее работать со своей аудиторией, демонстрируя только положительные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иемы черного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 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в политике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являющийся полным тезкой или однофамильцем политика, организует благотворительную акцию, в ходе которой происходит раздача продуктовых наборов или других товаров. Естественно, они будут некачественными, что вызовет негодование у электора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мещение компрометирующего фото- и видеоматериала. Чаще всего скрытая съемка проводится в неформальной обстановке, где политик позволяет себе некоторые вольности, но и смонтированные материалы активно идут в х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негативного образа за счет неблагонадежной аудитории. Так, например, профашистские организации или представители ЛГБТ-сообщества могут быть наняты для того, чтобы проводить агитацию за конкур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р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ная противоположность белог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 на то, чтобы сформировать негативный образ конкурента в глазах обществен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явление родственников. Это могут быть незаконнорожденные дети, братья или сестры, которые влачат жалкое нищенское существование. Как правило, это наемные люди, которые активно выступают на телевидении и в ходе митин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законная реклама. Подразумевается проведение агитации за конкурента в так называемые "дни тишины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ндализм и порча имущества. Имеется в виду расклейка листовок конкурента на памятниках архитектуры, дверях и окнах жилых зданий, окнах автомобилей. С целью добиться большей озлобленности аудитории может применяться несмываемый клей или едкая кра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азные статьи. В печатных СМИ местного значения размещаются заметки о коррупционных связях кандидата на избирательную долж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йный агент. В СМИ неугодный кандидат может быть уличен в связях с иностранными спецслужб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монстрация роскоши. Основная цель - предать гласности как можно больше дорогих покупок оппонента, учебу детей за границей, громкие празднования, в которых политик принимал участ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политике используются "образ врага", который подразумевает следующе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врага не приходится ожидать ничего хорошего, а потому нельзя доверять ему и оказывать поддержк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я вина за происходящие негативные процессы возлагается на политического оппонен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х врага приравнивается к автоматическому наступлению благосостояния нар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бы трудности не постигли "плохого" политика, к нему нельзя испытывать сострад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оратники врага автоматически наделяются таким же статус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струменты черного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в интерне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умы, блоги, социальные се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подобных ресурсах активно создаются фейковые аккаунты, с которых распространяется компрометирующая информация. "Тролли" принимают активное участие в обсуждении, приводя весомые и убедительные аргумен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зывы. Если раньше человек спрашивал мнение о качестве товаров или услуг о своих знакомых, сейчас он, первым делом, ищет подобную информацию в интернете. Поэтому достаточно часто в борьбе с конкурентами используются фейковые негативные отклики о работе той или иной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ы для размещения компромата. В сети есть огромное количество ресурсов, которые специализируются на черном пиаре. На них собрано множество порочащих сведений об известных лицах и организац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йты-клоны. Призваны ввести в заблуждение пользователей. Ресурс представляет собой практически полную копию реального сайта организации, за исключением контента. Страница наполняется текстами с нецензурной лексикой, а также медийными материалами экстремистского или иного оскорбительного содерж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-black-pr-228x331"/>
          <p:cNvPicPr/>
          <p:nvPr/>
        </p:nvPicPr>
        <p:blipFill>
          <a:blip r:embed="rId1"/>
          <a:stretch/>
        </p:blipFill>
        <p:spPr>
          <a:xfrm>
            <a:off x="1979640" y="260280"/>
            <a:ext cx="496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ожительный или отрицательн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 котором используются данные из скрытых источников. Часто подразумевает воздействие на подсознание аудито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бороться с черным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нтернет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 и удаление негативных комментариев и отзывов с разных ресур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яжело, привлечь к данному процессу большое количество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ространение положительных сведений о своей организации. Для эффективной работы в этом направлении придется использовать инструменты SEO и SM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ся в виду оптимизация ресурсов с положительной информацией, чтобы они стали более доступными для пользова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ая рассылка. Правильно составленный пресс-релиз позволит укрепить позиции организации на фоне негативной информационной ата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упка страниц с хорошей посещаемостью и репутацией с целью размещения информации о компании и ссылок на ее ресур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ивизация бел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ети, чтобы затмить тот негатив, который исходит от конкур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ся PR-проект, реализация которого создаст положительный образ компании в сети, который будет трудно пошатнуть любыми информационными вбро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black-290x275"/>
          <p:cNvPicPr/>
          <p:nvPr/>
        </p:nvPicPr>
        <p:blipFill>
          <a:blip r:embed="rId1"/>
          <a:stretch/>
        </p:blipFill>
        <p:spPr>
          <a:xfrm>
            <a:off x="2340000" y="148428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елт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кандальные оскорбительные сведения, которые привлекают внимание общественности и вызывают бурные диску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оз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основан на легендах и мифах, которые удовлетворяют потребность аудитории в иллюзия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сходит выработка социального оптимизма и ощущения грядущего благополуч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еле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демонстрируется социальная ответственность и забота об окружающей сре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лот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оздание имиджа организации на основе ценовой поли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828x620"/>
          <p:cNvPicPr/>
          <p:nvPr/>
        </p:nvPicPr>
        <p:blipFill>
          <a:blip r:embed="rId1"/>
          <a:stretch/>
        </p:blipFill>
        <p:spPr>
          <a:xfrm>
            <a:off x="1619280" y="1779480"/>
            <a:ext cx="5905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21:04:59Z</dcterms:created>
  <dc:creator>admin</dc:creator>
  <dc:description/>
  <dc:language>en-US</dc:language>
  <cp:lastModifiedBy>Дружба Ольга Владимировна</cp:lastModifiedBy>
  <dcterms:modified xsi:type="dcterms:W3CDTF">2022-03-16T09:07:52Z</dcterms:modified>
  <cp:revision>7</cp:revision>
  <dc:subject/>
  <dc:title>«Черный» PR: понятие, технологии, примеры</dc:title>
</cp:coreProperties>
</file>