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3BE-A3BD-47C7-A97B-FD102F01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E70-5F78-42AE-85E8-84DE8D8B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739-AA62-4044-B428-53360493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962-8155-4353-BB67-107A32C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64ED-0B47-4524-BAB6-E7C3ABD8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A1D-39E5-43C1-A92A-243170F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53E-FDD3-47A6-ADA6-F0E9411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247C-836A-4837-8F28-4A8D2ED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C03-F872-4F1D-B90D-3BF2C981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B77-AC6E-4AB2-A444-1554D889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6D8A-5601-47E8-9CEF-A83CD7D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8CA-8C00-43C8-89ED-B1C6F3C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927-88C4-40B8-B314-16615AF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3E6A-B3E0-438D-83AD-8EA8907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62BF-CF5F-4E1E-A92A-A3B9C8E1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BE02-6608-4532-96A7-9AFDD76F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C80-4E2E-4EA0-95EE-2CAB9631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E794-2F9C-4DC2-9558-5A3786E4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D250-E2B0-4C32-98D9-5394F9F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ACD3-DCA7-459D-A2DC-D36FF64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BF6E-FE9C-4A0A-AEB7-F173F3B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CF2A-C0AC-40BD-8288-53A8D8DD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053-7A81-4FA9-8278-0335CFAE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1957-667E-49DA-964D-DE321C4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FF6C-AA63-424F-AB2E-6C08696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3071-C38B-4492-AB02-29563ED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49C0-C394-41C1-8F2A-5651F66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1A26-5981-4E68-B9AF-49BB346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2EA2-E842-46A6-84D1-B46AF66C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73A9-1828-4BE9-88C5-CA88487B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EBB5-B4BE-434D-AA99-EB468A8A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78E1-8D57-4CF4-8E6B-6A3826B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5276-484A-4559-BFA4-1506AA2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45E-64E2-4119-837C-52C65EC8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99F51-DF01-451E-AD74-D84E55B1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9409-675A-40B9-A83E-B8C8944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A953-281D-44E9-B91B-5C62BF2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2118-1E52-44B4-AC21-4836ECF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212B-0CBD-44BB-8BA5-B7587D2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4579-A62A-40D5-8E3C-80D911F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115B-C0A9-4A51-9208-933D8147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C73E-7EC4-4351-A6DB-371BA02F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08DF-3A04-4BE1-A609-241358BB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1E8A-1BB3-4C0A-B47B-FEDE62BD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2C7-B01F-4B68-B293-A8C7BBA8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9E9B-6CE8-444F-8C80-EBA3769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0708C-DD3F-4CB6-A601-AB3AEE09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FCC6-E656-467E-8608-7E162EA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446F-F66B-428F-A475-78277289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BB9A-B613-46A3-ACEB-20C45E6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59EA-7244-4736-BB3E-0DDA5AE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B79C-527F-4CF1-975D-926EC96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DF33-397E-4059-A395-3762A82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F1F6-9907-4241-ABCA-AEB869C6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38DC-84D6-4D1E-93C7-DD66F639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B27-83C8-4B74-BA7C-D3389799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910F-5FF3-4C5B-8122-01328DC8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00D-A51B-400F-A390-2B91260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2BE-056A-4069-8196-35AA978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FBF-47FF-4F8F-8FBF-D703B29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CC0A-D557-4815-9D8B-AB6D9E39B6EA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634-3EAD-4C14-9C17-5E71CED5075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0855-A245-4A1B-B977-5F33CDAA5B91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D99-B14B-457C-A736-9CDD9099430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4B6-2280-47AC-A3FF-FA9620593C6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3440" y="1125360"/>
            <a:ext cx="655020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Arial"/>
              </a:rPr>
              <a:t>Антикризисный </a:t>
            </a:r>
            <a:r>
              <a:rPr b="1" i="1" lang="en-US" sz="3600" spc="-1" strike="noStrike">
                <a:solidFill>
                  <a:srgbClr val="262626"/>
                </a:solidFill>
                <a:latin typeface="Arial"/>
              </a:rPr>
              <a:t>PR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Теория кризисов: определение, типология, причины возникновения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ы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язательный компонент нашей жизн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икто не застрахован от кризис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 только угроза организации, но и шанс улучшить ее репутац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Impact"/>
              </a:rPr>
              <a:t>конфликт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инамический тип социальных взаимоотношений, произрастающих из потенциально возможных или реальных столкновений субъектов на почве тех или иных противоречиво осознаваемых предпочтений, интересов или ценностей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стоянно присутствующий и не поддающийся устранению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Типология кризисов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ассификация кризисов зависит от того, какой критерий мы выбирае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ожиданные кризисы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Происходят настолько внезапно и неожиданно, что остается очень мало или совсем не бывает времени для подготовки и планирования (авиакатастрофа, смерть ведущего руководителя и т.п.). Такие кризисы требуют заблаговременного согласования между руководителями плана действий, который позволили бы избежать недоразумений и неоперативности реагирования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ревающие кризисы. Больше времени для планирования и изучения, но могут разразиться моментально после длительного брожения (неудовлетворение работников, неблагоприятный моральный климат и т.п.)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прерывные кризисы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. Могут длиться месяцами или годами (сплетни, слухи, спекуляции)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1040" y="228240"/>
            <a:ext cx="739296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типы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организационных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кризисов: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1640" y="1773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303030"/>
                </a:solidFill>
                <a:uFillTx/>
                <a:latin typeface="Times New Roman"/>
              </a:rPr>
              <a:t>Неожиданные кризисы</a:t>
            </a: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 (чрезвычайные происшествия: различного вида катастрофы, смерть ведущего служащего, пожары, паника в учреждении и т.д.) – наиболее опасный вид кризисов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Они случаются так внезапно и неожиданно, что остается немного времени или его почти нет для исследования и планирования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262626"/>
                </a:solidFill>
                <a:uFillTx/>
                <a:latin typeface="Impact"/>
              </a:rPr>
              <a:t>Развивающиеся кризисы</a:t>
            </a:r>
            <a:endParaRPr b="0" lang="en-US" sz="3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удовлетворенность служащих и низкие моральные качества, значительные злоупотребления на работе, назначение завышенной цены по государственным контрактам компан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этом случае остается больше времени для исследования и планирования, но и эти кризисы могут происходить неожиданно, назревая в течение длительного времен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262626"/>
                </a:solidFill>
                <a:uFillTx/>
                <a:latin typeface="Impact"/>
              </a:rPr>
              <a:t>Устойчивые кризисы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дезинформация, слухи, толки, предположения, высказываемые в средствах массовой информации и устн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которые, несмотря на усилия администрации, продолжают существовать месяцами или даже год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5920" y="0"/>
            <a:ext cx="7588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Классификация кризисов - подход С. Блэка:</a:t>
            </a:r>
            <a:r>
              <a:rPr b="1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известное неизвестное» -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известно, что авария может произойти, но </a:t>
            </a: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известно,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изойдет ли она, и если да, то когда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неизвестное неизвестное»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- случаются катастрофы и аварии, которые никто не способен предвидеть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управления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С точки зрения пиара, маркетинговых коммуникаций и комьюнити-менеджмента, 2020-2021 гг. показали большое количество примеров и ситуаций, когда бизнес демонстрировал в основном неудачные примеры антикризисных коммуникаций и слабого маркетингового взаимодействия.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i="1" lang="ru-RU" sz="2300" spc="-1" strike="noStrike" u="sng">
                <a:solidFill>
                  <a:srgbClr val="262626"/>
                </a:solidFill>
                <a:uFillTx/>
                <a:latin typeface="Impact"/>
              </a:rPr>
              <a:t>Д. Ньюсом, А. Скотт («Это ПР»)</a:t>
            </a: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1341360"/>
          <a:ext cx="8280360" cy="5516640"/>
        </p:xfrm>
        <a:graphic>
          <a:graphicData uri="http://schemas.openxmlformats.org/drawingml/2006/table">
            <a:tbl>
              <a:tblPr/>
              <a:tblGrid>
                <a:gridCol w="2741760"/>
                <a:gridCol w="1868400"/>
                <a:gridCol w="367020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кризи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руш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строфические - внезапные человеческие жертвы и разруш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разрушительны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жиданные у грозы, но потери, если случаются, отсроче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род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трясения, лесные пожары, ураганы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хи, эпидемии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ы терроризма, в том числе умышленная порча продуктов, что приводит к человеческим жертвам или повреждению собст­в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 использования взрывчатки, отравления продуктов, насильствен­ных захватов, разглашение секретов, умышленные слухи и другие злонамеренные дей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ы, пожары, отравления, другие ава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на производстве с отсроченными последствиями, биржевые крахи, банкрот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1640" y="475920"/>
            <a:ext cx="765972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расположению источника кризисы можно подразделить на внешние, внутренние и смешанные (последний вариант наиболее распространен)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направленности воздействий — на непосредственные и косвенные, т.е. непосредственно касающиеся базисного PR-субъекта и косвенно затрагивающие его интере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3920" y="0"/>
            <a:ext cx="7659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Ученые выделили восемь типов кризисов, вызванных либо управленческими ошибками, либо природными силами: 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9040" y="1125360"/>
            <a:ext cx="74646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иродные и технологические кризисы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онфронтация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доброжелательность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скажение управленческих ценносте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ман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лохое исполнение управленцами своих обязанностей (должностные преступления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еловые кризисы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экономические кризи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0" name="Picture 3" descr="Снимок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42920" y="1412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2" name="Picture 3" descr="Снимок_2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Экономически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ражают острые противоречия в экономике страны или экономическом состоянии отдельного предприятия, фирмы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роизводства и реализации товара, взаимоотношений экономических агентов, кризисы неплатежей, потери конкурентных преимуществ, банкротства и п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Социальны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ют при обострении противоречий или столкновении интересов различных социальных групп или образований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ботников и работодателей, профсоюзов и предпринимателей, специалист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личных профессий, персонала и менеджеров и д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Организационны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являются как кризисы разделения 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нтеграции деятельности, распределения функций, регламент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функционирования отдельных подразделени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ак отделение административных единиц, регионов, филиалов или дочерних фирм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Психологически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сихологического состоя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челове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ни проявляются в виде стресса, приобретающего массовый характер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в возникновении чувства неуверенности, паники, страха за будущее, неудовлетворенности работой, правовой защищенностью и социальным положением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в социально-психологическо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имате общества, коллектива или отдельной социальной групп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Impact"/>
              </a:rPr>
              <a:t>Технологический кризис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ет как кризис новых технологически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идей в условиях явно выраженной потребности в новых технологиях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ожет быть кризис технологической несовместимости изделий или кризис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торжения новых технологических решений. В более обобщенном плане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акие кризисы могут выглядеть кризисами научно-технического прогресса —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острение противоречий между его тенденциями, возможностями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следствиям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в настоящее время переживает явный кризис идея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ирного использования атомной энергии, строительства атомны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лектростанций и кораблей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hoto_2020-07-15_16-31-11-736x1024"/>
          <p:cNvPicPr/>
          <p:nvPr/>
        </p:nvPicPr>
        <p:blipFill>
          <a:blip r:embed="rId1"/>
          <a:stretch/>
        </p:blipFill>
        <p:spPr>
          <a:xfrm>
            <a:off x="250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737244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Причины возникновения кризисов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47640" y="1267920"/>
            <a:ext cx="73454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огут быть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объективными и субъективным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бъективный кризис вызывают обстоятельства, находящиеся вне контроля базисного PR-субъект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апример, избрание нового губернатора, стихийные природные явления, теракты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дним из признаков объективного кризиса является то, что он негативно сказывается на  широкой аудитории, а не только на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базисном PR-субъекте. К признакам такого кризиса относится также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еожиданность,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паническое состояние жертв воздействий и кажущаяся безысходность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сновные проблемы у организации возникают не в результате самих объективных кризисов, а в результате адаптации к новым условиям. Таким образом, вторичное порождение объективного кризиса — это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кризис адаптации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В результате преодоления объективных кризисов у организации вырабатывается «антикризисный иммунитет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Сферы протекания кризисных процессов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8692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деляются на природные, общественные, экологически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ервые вызваны природными условиями жизни и деятельности человека. К причинам таких кризисов относят землетрясения, ураганы, пожары, климатические изменения, наводнения. Это отражается на экономике, психологии человека, социальных и политических процессах. Природные кризисы включают в себя последствия любых стихийных бедствий. Например, наводнениеуничтожило весь урожай на полях базисного PR-субъе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692360" y="475920"/>
            <a:ext cx="729936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чиной кризисов могут быть общественные отношения во всех формах их выражен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законодательные (принят новый закон об ипотеке) или политические, которые обычно бывают вызваны сменой каких-либо ключевых политических фигур, от Президента РФ до депутата местного самоуправления, а также приходом к власти новых политических сил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Экологические кризис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ризисы взаимоотношения человека с природой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возникающие при изменении природных условий, вызванных деятельностью человека, — истощение ресурсов, загрязнение окружающей среды, возникновение опасных технологий, пренебрежение требованиями законов природного равновес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3760" y="228240"/>
            <a:ext cx="73198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 менеджмента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95040" y="1341360"/>
            <a:ext cx="7248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дикальные технологические трансформации вызвали негативные изменения глубинных основ функционирования общества,  воспроизводства действительной жизни населения, его материального благополучия, физического, духовно-нравственного и психического здоровья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обрели опасный характер депопуляционные процессы, обнищание населения, разрушение трудового потенциала, массовые социопат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худшилась социально-экологическая ситуация, обострились угрозы техногенных аварий и катастроф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Понятие и функции антикризисного менеджмента. 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е PR</a:t>
            </a: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являются важной частью антикризисного менеджмента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й менеджмент - деятельность, необходимая для преодоления состояния, угрожающего существованию предприятия, его репут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этих целях осуществляется ряд информационно-технологических действий, направленных на достижение доверия к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антикризисный менеджмент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узком смысле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- решение задач по разработке и проведению мероприятий, которые ведут к ослаблению и преодолению кризисного процесс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широком смысле включает не только стратегию и тактику преодоления кризиса, но и его профилактику. Согласно этой точке зрения, например, PR-план по выходу из кризисной ситуации нужно разрабатывать до того, как кризис наступил. Во время кризиса базисный PR-субъект может использовать подготовленные заранее сценарии поведения и трактовки самых разных кризисных случаев, которые могут с ними произойт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Impact"/>
              </a:rPr>
              <a:t>Характеристики кризис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незапное возникновение новых действующих лиц, высказывающихся на тему и требующих объяснен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еренасыщение коммуникационных каналов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рост неопределенности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собое значение превентивный антикризисный менеджмент приобретает в потенциально опасной отрасли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числу таких отраслей эксперты относят потенциально аварийные, — энергетику, химическое производство, добычу природных ресурсов, транспорт;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вязанные с сохранением здоровья и жизни людей, — здравоохранение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изводство продуктов питания, а также других товаров и услуг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трасли, связанные с благосостоянием населен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банкротств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тановка производства или его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Забастовка занятых или её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террористического а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течка значимой конфиденциальн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ерьезный несчастный случай, сопровождающийся фатальным исходом и ранениями, или ограничивающий способность организации функционировать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теря значимого потребителя или рын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Банкротство крупнейшего поставщика или задержка поставок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ногласия в отрасл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photo_2020-07-15_16-31-04-2-1024x768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31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744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желательное или враждебное поглощение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теря финансовой поддержки или покровител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начение в госадминистрации чиновника, враждебного для компан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зменение государственного регулирования, несущее серьезные негативные последствия для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539640" y="1720800"/>
            <a:ext cx="8425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пный дефект продукта, требующий отзыва продукта с ры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запная болезнь, похищение, смерть и другие причины, затрагивающие способность ключевых менеджеров функцион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наружение криминальной или недобросовестной деятельности, имеющей отношение к менеджменту и грозящей целостности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льсификация продукта, компрометирующая орган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618920" y="404640"/>
            <a:ext cx="737244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качестве кризисных могут выступать явления, имеющие косвенное отношение к деятельности организации. Если в 80-х годах в качестве главных кризисных явлений выступали отзыв недоброкачественной продукции, вопросы здоровья, безопасности и другие "осязаемые" проблемы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о в 90-х годах кризисный список существенно пополнился: в нем ключевыми были обвинения компаний в расовой и другой дискриминации, должностные преступления, нарушения трудового и торгового законодательства, проблемы сексуальных притязаний и т.д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функциям антикризисного менеджмента относятся исследование и анализ с точки зрения кризисных последств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гативных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общественных тенденций, представляющих угрозу репутации и прибыли компании (например, негативное восприятие продукта потребителями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йтральных (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кажем, нововведения в процесс упаковки продуктов)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ложительных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(например, выход на новые рынки) тенденци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63280" y="22824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62626"/>
                </a:solidFill>
                <a:latin typeface="Impact"/>
              </a:rPr>
              <a:t>антикризисный менеджер управляет: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02920" y="907920"/>
            <a:ext cx="758844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ктивами (пассивами) предприятия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апами бизнес-процесса (сбыт, производство, снабжение, учет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граммами защиты имущества и безопасности бизнеса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кадрами (включая вопросы формирования кадровой политики,  социальные вопросы, отношения с профсоюзами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построения отношений с акционерами, партнерами, органами государственной власти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информационной поддержки (включая доведение до сведения трудового коллектива информации о планах, методах и принципах  управления, а также доведение социально-значимых аспектов деятельности до широкой общественности</a:t>
            </a:r>
            <a:r>
              <a:rPr b="0" i="1" lang="ru-RU" sz="2400" spc="-1" strike="noStrike">
                <a:solidFill>
                  <a:srgbClr val="72605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трашен не сам кризис, а неправильное поведение в критической ситуац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.е.неумение выстроить эффективные коммуник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02920" y="549360"/>
            <a:ext cx="758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ой антикризисного PR является стратегия антикризисного менеджмен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спех преодоления кризисных явлений зависит не только от действий руководства организац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й PR  должен обеспечить поддержку выработанной стратегии выхода из кризиса со стороны внешней сред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е связи с общественностью являются одним из важнейших рычагов преодоления кризиса наряду с экономическими, финансовыми, юридическими и прочими рычагами и необходимой частью собственно антикризисного менеджмен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547640" y="404640"/>
            <a:ext cx="7444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ные PR является видом антикризисных PR. Ведь конфликт - частный, локальный вид кризис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 взаимного доверия между сторонами, связанными в процессе деятельности; период, когда согласия не удаётся достигнуть путём переговоров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 – острая форма конкурентной борьбы (и в бизнесе, и в политике, и в личных отношениях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58920" y="259920"/>
            <a:ext cx="7564320" cy="593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д кризисом может подразумеваться и любое изменение в компании, даже рост ее доходов или количества филиалов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Любое изменение – в лучшую или худшую сторону – это уже кризис, поскольку требуются разъяснения для общественности – внутренней или внешне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акие кризисы получили название обыкновенных», они составляют львиную долю кризисов любой компании. И именно на «обыкновенные» кризисы компании, как правило, вообще не реагируют. Среди «обыкновенных» выделяют, в частности, кризисы роста, кризисы зрелости и кризисы спада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515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Переход от стадии формирования организации к ее интенсивному росту,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ак правило, сопровождается первым кризисом роста.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99760" y="15238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Стадия формирования характеризуется, с одной стороны, наличием в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рганизации специалистов-разработчиков («новаторов», «творцов»), готовых, основываясь на потребностях рынка, создавать и предлагать новый (или нужный) продукт, а с другой стороны, превалированием внутри организации тесных, доверительных, почти «семейных» отношений, свойственных организационной культуре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днако для эффективного функционирования организации на стадии интенсивного роста на смену «творцам» (или в дополнение к ним) должны прийти «продавцы», коммерсанты, специалисты, способные обеспечить продвижение товара на рынке. Изменение профессионально-ролевого состава организации ведет к появлению новых организационно-культурных норм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Нормальные условия существования и профессионального развития «продавцов» — это постоянная конкуренция друг с другом, характерная для  предпринимательской организационной культуры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49440" y="1125360"/>
            <a:ext cx="669456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4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«Знайте о худшем и готовьтесь к нему» 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Следующая кризисная ситуация ожидает организацию, переходящую от стадии интенсивного роста к стадии стабилизации. Ее называют 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ризисом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зрелости.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стадии стабилизации необходимы специалисты, способные создавать эффективные технологии, фиксировать ( в технологических схемах) наиболее удачные подходы, обнаруженные в ходе интенсивного роста организации. Это означает, что «продавцов» должны сменить (или дополнить) «технологи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редой их функционирования должны стать правила строгой иерархии, подчиненности, определенности, детерминируемые профессиональной деятельностью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акой тип отношений характерен для бюрократической организационной культуры, вступающей в противоречие с предпринимательской, эффективной для предыдущей стадии, доминантой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Кризис характерен для перехода от стадии стабилизации к с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тадии спада. </a:t>
            </a: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Именно этот этап - собственно кризис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Именно на него реагируют руководители организаци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выживания организации, оказавшейся на стадии спада, необходимы совершенно особые специалисты, способные объединить в себе навыки разработчиков, продавцов и технологов. С точки зрения изменения норм и правил можно предположить, что персонал организации будет нуждаться в совершенно особом стиле отношений — ориентированном на лидер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преодоления собственно кризиса особое значение будет иметь то, что принято называть харизмой лидера. При этом в зависимости от специфики организации это может быть харизма вождя, суперпрофессионала или коммуникатора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Факторы, усложняющие управление в условиях кризиса:</a:t>
            </a:r>
            <a:br>
              <a:rPr sz="3000"/>
            </a:b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30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3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Внезапность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Кризис является неожиданны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достаточность информации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Слухи, трудно постичь все, много обращений за разъяснение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Эскалация событий.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ризис разрастается. Все хотят знать, что происходит. Организация пытается реагировать на все аккуратно, но события разворачиваются стремительно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Факторы управления в условиях кризиса: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71280" y="1413000"/>
            <a:ext cx="7272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отеря контроля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верная информация попадает в каналы новостей, газетные полосы и эфир. Расползание слухов трудно контролировать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арастание вмешательства внешних си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МИ, общественные организации и население питаются слухами. Все стараются высказать свою точку зрения и ждут реакции организации. Все требуют отве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Ментальность загнанного в уго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Лучше всего молчать. И сидеть как в осаде. «Все, что вы скажите, может быть использовано против вас»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аника.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пециалисты Ogilvy PR выделяют восемь характеристик, лежащих в основе кризисов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1. Неожиданность, обусловленная разоблачением в средствах массов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2. Недостаток информации об относящихся к делу фактах и стихийно формирующееся общественное представление о проблем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3. Прогрессирующий поток событий, мешающий топ-менеджерам быстро осознать то, что, нравится им это или нет, они «владеют» проблемой и должны быстро сформулировать убедительный ответ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4. Потеря контроля над восприятием развивающегося кризиса и над воздействием, которое он начинает оказывать на компан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1040" y="765000"/>
            <a:ext cx="7392960" cy="55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5. Пристальный надзор со стороны как внешних, так и внутренних аудиторий, включая медиа, правительство, регулирующие органы, группы активистов, ключевых стейкхолдеров, а главное – саму управленческую команду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6. Психология «начала осады», обусловливающая попытки руководства компании «спрятаться» за юридическими аспектами кризиса, вместо того, чтобы бороться с основной проблемой, и, таким образом, позволяющая кризису причинить организации еще больший вред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7. Паника, осложняющая и/или парализующая процесс принятия решений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8. Публичное разрешение проблемы, сконструированное таким образом, чтобы удовлетворять интересам аутсайдеров – СМИ, правительства, регулирующих инстанций и групп влияния – но отнюдь не интересам самой компании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нестабильный или переломный период или положение дел, при котором субъекту угрожают решительные перемены…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варь Вебстера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прекращение нормального процесса, внезапное серьезное происшествие, ставящее под угрозу стабильность организации и обладающее потенциалом повредить или разрушить ее репутацию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Кризис </a:t>
            </a: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— </a:t>
            </a: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это событие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 вине которого компания попадает в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нтр не всегда доброжелательного внимания СМИ и других внешни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левых аудиторий, в том числе акционеров, политиков, профсоюзны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организаций, движении в защиту окружающей среды, которые по той или иной причине вполне законно интересуются действиями организ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М. Роджестер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ная ситуация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предвиденное, экстремальное, катастрофическое положени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22:28Z</dcterms:created>
  <dc:creator>user</dc:creator>
  <dc:description/>
  <dc:language>en-US</dc:language>
  <cp:lastModifiedBy>User</cp:lastModifiedBy>
  <dcterms:modified xsi:type="dcterms:W3CDTF">2022-12-20T19:32:01Z</dcterms:modified>
  <cp:revision>31</cp:revision>
  <dc:subject/>
  <dc:title>ПР управление кризисом и возможностями</dc:title>
</cp:coreProperties>
</file>